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57F3-3816-40FB-955B-F035D8CF5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15AD-EF5B-41E6-B51E-2F1B23D3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D992-2BEA-451A-B897-107B9661A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260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0616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904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260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0616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A3B0-2D62-4C08-8F1A-F88E25293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1409-ADB3-43FD-9132-AA30B8A51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6532-954D-41EC-BE61-0ED93AEA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56CC-7D11-43FE-9919-E9CF855A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2BE0-3513-4B3E-9FE0-DA5BD534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29F4-1C26-41B3-A46D-F07B484B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79040" y="107640"/>
            <a:ext cx="7581960" cy="76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5E34-0BE0-49E4-B1A0-431B9939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D795-5454-4A2B-BE03-C01D5267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7D2F-9E7E-46F8-B160-B04C97D0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6ACF-9DBF-47BD-B8EC-6945210F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A6E7-C5EA-4959-83C0-37D02B78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8F38-6045-48EF-9378-B6AA3583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2C0B-052A-4A53-88B4-D005B72B2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260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0616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7904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260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0616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EEEC-CBDE-4EA4-BEC4-72221A67B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B2CF-9281-44D5-BD63-D860BB21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BDB4-5860-4FE5-AC13-A16306BD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F541-5F40-4DFC-A989-A669414C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9040" y="107640"/>
            <a:ext cx="7581960" cy="76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4336-8932-4920-A97D-8970993F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7A26-2CF6-4647-BF69-9762DDC2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6BBD-5B48-4EA0-957C-CFE2B26E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EDB9-C4F7-4A03-BA4E-34AF33B7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GridOverlay.png"/>
          <p:cNvPicPr/>
          <p:nvPr/>
        </p:nvPicPr>
        <p:blipFill>
          <a:blip r:embed="rId3">
            <a:alphaModFix am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78720" indent="-378720">
              <a:spcBef>
                <a:spcPts val="20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757800" indent="-37872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2" marL="1074240" indent="-31608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3" marL="1402560" indent="-32796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4" marL="1719000" indent="-31608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5" marL="1719000" indent="-31608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6" marL="1719000" indent="-31608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DE0D44-F2F8-456F-BED5-BC79049E5625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911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B35845-4E08-4ECE-811C-D8F2F96BF47E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GridOverlay.png"/>
          <p:cNvPicPr/>
          <p:nvPr/>
        </p:nvPicPr>
        <p:blipFill>
          <a:blip r:embed="rId3">
            <a:alphaModFix am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MoleculeTracer.png"/>
          <p:cNvPicPr/>
          <p:nvPr/>
        </p:nvPicPr>
        <p:blipFill>
          <a:blip r:embed="rId4"/>
          <a:stretch/>
        </p:blipFill>
        <p:spPr>
          <a:xfrm>
            <a:off x="1674720" y="225360"/>
            <a:ext cx="5796000" cy="394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78720" indent="-378720">
              <a:spcBef>
                <a:spcPts val="20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757800" indent="-37872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2" marL="1074240" indent="-31608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3" marL="1402560" indent="-32796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4" marL="1719000" indent="-31608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5" marL="1719000" indent="-31608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6" marL="1719000" indent="-316080">
              <a:spcBef>
                <a:spcPts val="20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A3DB79-6AB4-4475-ACA5-F2F96796A8B0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41911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27D6DC-FA57-457E-9CD0-4C8D187287FB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0800" y="4154400"/>
            <a:ext cx="7542000" cy="101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Social Networking for Education:  A Discussion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20800" y="5230800"/>
            <a:ext cx="7542000" cy="103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Center for Digital Education, NYC, Broward, Clarke, Chicago, Suffolk Co BOCES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January 25, 2010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77600" y="3123720"/>
            <a:ext cx="75848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ndara"/>
              </a:rPr>
              <a:t>What is a social network?</a:t>
            </a:r>
            <a:endParaRPr b="1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88" name="Picture Placeholder 5" descr="social-network_illu_farbig.png"/>
          <p:cNvPicPr/>
          <p:nvPr/>
        </p:nvPicPr>
        <p:blipFill>
          <a:blip r:embed="rId2"/>
          <a:stretch/>
        </p:blipFill>
        <p:spPr>
          <a:xfrm>
            <a:off x="2932200" y="390600"/>
            <a:ext cx="3279600" cy="33829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7600" y="3809520"/>
            <a:ext cx="758484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“</a:t>
            </a: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An association of people drawn together by family, work or hobby. The term was first coined by Professor J. A. Barnes in the 1950s, who defined the size of a social network as a group of about 100 to 150 people.” 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Candara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ndara"/>
              </a:rPr>
              <a:t>Copyright © 1981- 2009 The Computer Language Company Inc.</a:t>
            </a:r>
            <a:endParaRPr b="1" lang="en-US" sz="11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Popular Social Networks 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91" name="Content Placeholder 4" descr=""/>
          <p:cNvPicPr/>
          <p:nvPr/>
        </p:nvPicPr>
        <p:blipFill>
          <a:blip r:embed="rId2"/>
          <a:stretch/>
        </p:blipFill>
        <p:spPr>
          <a:xfrm>
            <a:off x="493560" y="1878120"/>
            <a:ext cx="8150400" cy="3962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1828800" y="58356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Go2Web20 - List of Web 2.0 Tools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Social Networks in Education - Benefits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79040" y="1882800"/>
            <a:ext cx="75819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2880" indent="-362880"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Encourage students to express their own thoughts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62880" indent="-362880">
              <a:spcBef>
                <a:spcPts val="2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Provide effective collaboration and communication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62880" indent="-362880">
              <a:spcBef>
                <a:spcPts val="20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Enhance students’ learning experience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62880" indent="-362880">
              <a:spcBef>
                <a:spcPts val="20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Build an online learning community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62880" indent="-362880">
              <a:spcBef>
                <a:spcPts val="20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Gain experience and knowledge  of  2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andar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 century literacy skills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62880" indent="-362880">
              <a:spcBef>
                <a:spcPts val="20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Provide career related skills needed for workplace success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62880" indent="-362880">
              <a:spcBef>
                <a:spcPts val="20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NETS Skills Supported  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Creativity and Innovation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Communication and Collaboration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806400" indent="-403200">
              <a:spcBef>
                <a:spcPts val="601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Interact, collaborate and publish with peers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Research and Information Fluency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Critical Thinking, Problem Solving, and Decision Making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Digital Citizenship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What are other districts doing?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lnSpc>
                <a:spcPct val="80000"/>
              </a:lnSpc>
              <a:spcBef>
                <a:spcPts val="2001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Facebook wide open – not blocked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lvl="1" marL="806400" indent="-403200">
              <a:lnSpc>
                <a:spcPct val="80000"/>
              </a:lnSpc>
              <a:spcBef>
                <a:spcPts val="6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Hard to be preyed upon if anonymous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lvl="1" marL="806400" indent="-403200">
              <a:lnSpc>
                <a:spcPct val="80000"/>
              </a:lnSpc>
              <a:spcBef>
                <a:spcPts val="6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Article on wiki site 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lnSpc>
                <a:spcPct val="80000"/>
              </a:lnSpc>
              <a:spcBef>
                <a:spcPts val="2001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Using some of the tools – twitter – BCPS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lvl="1" marL="806400" indent="-403200">
              <a:lnSpc>
                <a:spcPct val="80000"/>
              </a:lnSpc>
              <a:spcBef>
                <a:spcPts val="601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http://www.browardschools.com 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lnSpc>
                <a:spcPct val="80000"/>
              </a:lnSpc>
              <a:spcBef>
                <a:spcPts val="2001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Using Second life – Escambia County, Florida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lvl="1" marL="806400" indent="-403200">
              <a:lnSpc>
                <a:spcPct val="80000"/>
              </a:lnSpc>
              <a:spcBef>
                <a:spcPts val="601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http://sleec.edublogs.org/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lnSpc>
                <a:spcPct val="80000"/>
              </a:lnSpc>
              <a:spcBef>
                <a:spcPts val="2001"/>
              </a:spcBef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Status from our group – who is using what?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lnSpc>
                <a:spcPct val="80000"/>
              </a:lnSpc>
              <a:spcBef>
                <a:spcPts val="2001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Does anyone have a social networking policy?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lvl="1" marL="806400" indent="-403200">
              <a:lnSpc>
                <a:spcPct val="80000"/>
              </a:lnSpc>
              <a:spcBef>
                <a:spcPts val="601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lvl="1" marL="806400" indent="-403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lvl="1" marL="806400" indent="-403200">
              <a:lnSpc>
                <a:spcPct val="80000"/>
              </a:lnSpc>
              <a:spcBef>
                <a:spcPts val="601"/>
              </a:spcBef>
              <a:buSzPct val="1131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Security Issues 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Internet protection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Cell phones used to access non-CIPA Compliant sites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ethering cell phones secretly to laptops for unrestricted access to web sites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o Skype or not to Skype?  Guidelines for use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What are our issues and potential resolutions?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8880" indent="-398880">
              <a:lnSpc>
                <a:spcPct val="80000"/>
              </a:lnSpc>
              <a:spcBef>
                <a:spcPts val="2001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ndara"/>
              </a:rPr>
              <a:t>CIPA Compliance</a:t>
            </a:r>
            <a:endParaRPr b="1" lang="en-US" sz="1900" spc="-1" strike="noStrike">
              <a:solidFill>
                <a:srgbClr val="ffffff"/>
              </a:solidFill>
              <a:latin typeface="Candara"/>
            </a:endParaRPr>
          </a:p>
          <a:p>
            <a:pPr marL="398880" indent="-398880">
              <a:lnSpc>
                <a:spcPct val="80000"/>
              </a:lnSpc>
              <a:spcBef>
                <a:spcPts val="2001"/>
              </a:spcBef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ndara"/>
              </a:rPr>
              <a:t>Training, curriculum alignment of social and ethical use of technology – including copyright and intellectual property</a:t>
            </a:r>
            <a:endParaRPr b="1" lang="en-US" sz="1900" spc="-1" strike="noStrike">
              <a:solidFill>
                <a:srgbClr val="ffffff"/>
              </a:solidFill>
              <a:latin typeface="Candara"/>
            </a:endParaRPr>
          </a:p>
          <a:p>
            <a:pPr marL="398880" indent="-398880">
              <a:lnSpc>
                <a:spcPct val="80000"/>
              </a:lnSpc>
              <a:spcBef>
                <a:spcPts val="2001"/>
              </a:spcBef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ndara"/>
              </a:rPr>
              <a:t>Erate compliance</a:t>
            </a:r>
            <a:endParaRPr b="1" lang="en-US" sz="1900" spc="-1" strike="noStrike">
              <a:solidFill>
                <a:srgbClr val="ffffff"/>
              </a:solidFill>
              <a:latin typeface="Candara"/>
            </a:endParaRPr>
          </a:p>
          <a:p>
            <a:pPr marL="398880" indent="-398880">
              <a:lnSpc>
                <a:spcPct val="80000"/>
              </a:lnSpc>
              <a:spcBef>
                <a:spcPts val="2001"/>
              </a:spcBef>
              <a:buSzPct val="10298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ndara"/>
              </a:rPr>
              <a:t>Nings, blogs and wikis- can limit the participants</a:t>
            </a:r>
            <a:endParaRPr b="1" lang="en-US" sz="1900" spc="-1" strike="noStrike">
              <a:solidFill>
                <a:srgbClr val="ffffff"/>
              </a:solidFill>
              <a:latin typeface="Candara"/>
            </a:endParaRPr>
          </a:p>
          <a:p>
            <a:pPr marL="398880" indent="-398880">
              <a:lnSpc>
                <a:spcPct val="80000"/>
              </a:lnSpc>
              <a:spcBef>
                <a:spcPts val="2001"/>
              </a:spcBef>
              <a:buSzPct val="10298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ndara"/>
              </a:rPr>
              <a:t>Supervision and monitoring by the teachers</a:t>
            </a:r>
            <a:endParaRPr b="1" lang="en-US" sz="1900" spc="-1" strike="noStrike">
              <a:solidFill>
                <a:srgbClr val="ffffff"/>
              </a:solidFill>
              <a:latin typeface="Candara"/>
            </a:endParaRPr>
          </a:p>
          <a:p>
            <a:pPr marL="398880" indent="-398880">
              <a:lnSpc>
                <a:spcPct val="80000"/>
              </a:lnSpc>
              <a:spcBef>
                <a:spcPts val="2001"/>
              </a:spcBef>
              <a:buSzPct val="10298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ndara"/>
              </a:rPr>
              <a:t>Student Email – protected “wall-garden” – ePals, Gaggle, FirstClass</a:t>
            </a:r>
            <a:endParaRPr b="1" lang="en-US" sz="1900" spc="-1" strike="noStrike">
              <a:solidFill>
                <a:srgbClr val="ffffff"/>
              </a:solidFill>
              <a:latin typeface="Candara"/>
            </a:endParaRPr>
          </a:p>
          <a:p>
            <a:pPr marL="398880" indent="-398880">
              <a:lnSpc>
                <a:spcPct val="80000"/>
              </a:lnSpc>
              <a:spcBef>
                <a:spcPts val="2001"/>
              </a:spcBef>
              <a:buSzPct val="10298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ndara"/>
              </a:rPr>
              <a:t>We need them to practice, how can we do it in a protected methods</a:t>
            </a:r>
            <a:endParaRPr b="1" lang="en-US" sz="1900" spc="-1" strike="noStrike">
              <a:solidFill>
                <a:srgbClr val="ffffff"/>
              </a:solidFill>
              <a:latin typeface="Candara"/>
            </a:endParaRPr>
          </a:p>
          <a:p>
            <a:pPr lvl="1" marL="798120" indent="-39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Wiki communication site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83040" indent="-383040">
              <a:spcBef>
                <a:spcPts val="2001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http://social-net.wikispaces.com/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marL="383040" indent="-38304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Need access for other members of staff?  Email:  jeanine.gendron@browardschools.com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marL="383040" indent="-383040">
              <a:spcBef>
                <a:spcPts val="2001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Forum for sharing documents  &amp; communicating through discussions on our discussion topics as we move forward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marL="383040" indent="-383040">
              <a:spcBef>
                <a:spcPts val="2001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All members have editing rights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marL="383040" indent="-383040">
              <a:spcBef>
                <a:spcPts val="2001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Model and use a Web 2.0 tool – But it is only beneficial if we use it!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marL="383040" indent="-383040">
              <a:spcBef>
                <a:spcPts val="2001"/>
              </a:spcBef>
              <a:buSzPct val="1122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5:49:56Z</dcterms:created>
  <dc:creator>ETS SBBC</dc:creator>
  <dc:description/>
  <dc:language>en-US</dc:language>
  <cp:lastModifiedBy>ETS SBBC</cp:lastModifiedBy>
  <dcterms:modified xsi:type="dcterms:W3CDTF">2010-01-25T16:12:55Z</dcterms:modified>
  <cp:revision>22</cp:revision>
  <dc:subject/>
  <dc:title>Social Networking for Education:  A Discussion</dc:title>
</cp:coreProperties>
</file>